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BC374-E6DB-4B61-B025-D62095FE43A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61D0AE-186A-48E3-8942-80FEBC67FCB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84706-E065-45DA-B114-8E6728DEF0B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65084-7BD8-4607-AF0F-C718AFDEEE0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F995C-38FB-46F7-8971-892FA8B21AC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1CFA9-D52C-47A4-B9A4-42A385E4BD5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D2B72-D34E-492F-B5A2-6D6F8FB6460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815D9-915A-4AF8-81F8-93CE8ECCEAB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31C61-B7DA-47D7-A781-85CB97E2A6E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2C7D4-5BD7-4A57-AAD9-D0BFDD5C025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64D0F-DB08-40D9-9131-DDF5645CDD8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61EB1-3C52-48F1-B205-EDE3A1D2512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4995BF-A917-4BFF-AF5F-1456B103BAE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57E1B-83A1-43A9-83DE-C01BF818205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8CE8B-D8EC-4C6B-AD7E-0D2285DAF0F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68114-A81D-4EB1-91DD-88022E7E750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AC0DC-C24D-49BE-BBDF-CAEC2991083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EAA8-ADBD-435F-A9F2-75A413972A8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95391-EBCB-4B55-A800-13BB15DD81A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824A-2585-424C-B465-539FC90690F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ADD5A-7261-455F-AC93-DE1A80BF942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DCC6E-722D-47BF-8E40-0D6E40D0A292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6E11C-80ED-4B34-A910-B12CD5FE2EE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5D7C-7883-4F42-B97C-EC0A7ED9B98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7982B-70E0-482D-8440-CDC348850698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2179-1E79-4902-95FE-16549906C1E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BE16A-4029-4CED-98CB-A7B051356EC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8830B-B17D-4B5B-8B42-24C9B47A10AD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7A9B-5B66-42C6-9FB3-9A81A0D7A47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A7EE0-ADD2-462E-9DCC-49BE27DE5DB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B2D18-41E3-404E-AE43-5573A6B1ADC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6654F-F5BD-484B-84D3-844F1229A3F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D29B8-E0C3-495F-85E2-9608C21B4401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B95E1-F080-465A-8685-55B4516101A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DBA13-34CE-418C-8D03-50F5051EE48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2BD79-AFD3-4D22-962A-5A589EB4139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48F5B-87FE-4B12-BA2D-9037EE7ACC9B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68ACE-49ED-43B4-8FF6-D4B3A84A3DFC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FF37-172A-41A9-9E0A-E9E1806C6BCF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F8186C-F2DE-4E0E-A4C3-982914F01B3E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9EF9D1-A319-4D04-BA29-BBF07F1D53D6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1E786B-466A-4E7B-9661-C765B53000B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F3846-426D-44D6-B62E-2BD296A8F60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3787B-A82C-45D5-8AF5-3BDFC416ACE9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0C70B-9DE9-455D-A795-E547CE3F3AC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Θέση αριθμού διαφάνειας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C084F-8743-417A-83D9-192EA462A28A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49485-B4E6-439A-894E-A365DBAC2AC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7B922-F136-4A70-8F8A-FB795FCAE407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70C503-D827-4153-8FD3-EEB1E9CF0985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F4D89-3374-4A68-8151-B52B18A29A13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2CFFC-F57A-44CA-83FF-BD3F71E3D164}" type="slidenum">
              <a:rPr b="0" lang="el-G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554D-3C6B-4F84-B0AC-3F52AC3033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B120-B68C-47D9-9CDE-27A62FB93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61D1A-A5BF-46E8-9DCE-0F5661F51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CF28-69B8-4C4C-9565-368135E38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D00F-5977-4D42-9585-D214B934E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E59F-531F-44C3-813F-C3B194CE3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38F8C-8C16-4B3C-A536-5C4D7A08D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0B8E-FFDF-4C57-B53C-845C78D48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48826-AC86-4067-A3BC-5C999CCB5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48A4F-F698-4382-96D4-57D09C075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BDFD9-5311-4FD9-880C-40C9D5B0E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F3E6A-6F29-4BF4-BA6B-535A53020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2B411-BA3B-4A1F-B356-D919FC3628D0}" type="slidenum">
              <a:rPr b="0" lang="el-G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40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2060"/>
                </a:solidFill>
                <a:latin typeface="Arial"/>
              </a:rPr>
              <a:t>ΑΙΜΑΤΟΛΟΓΙΑ 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002060"/>
                </a:solidFill>
                <a:latin typeface="Arial"/>
              </a:rPr>
              <a:t>Χ. Ζηλίδη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ΠΛΑΣΜ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324000" y="1052280"/>
            <a:ext cx="8820000" cy="507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Κύριο συστατικό του αίματος (55% του όγκου) Υποκίτρινο υγ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Ιδια ιοντική σύσταση με το εξωκυττάριο υγ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ποτελείται από → 91.5%  νερ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→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7% πρωτεΐνες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→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1.5% ορμόνες, βιταμίνε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ναπνευστικά αέρια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ηλεκτρολύτες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                                   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ζωτούχες ουσίε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ΠΛΑΣ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Πρωτεϊνες (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λβουμίνη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Σφαιρί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Ινωδογόνο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Άλλες ουσίες (1,5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Ορμό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Βιταμί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ναπνευστικά αέρι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 Αζωτούχες ενώσει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cc3300"/>
                </a:solidFill>
                <a:latin typeface="Arial"/>
              </a:rPr>
              <a:t>Ηλεκτρολύτες (ιόντ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χει την ίδια σύσταση ιόντων με το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ξωκυττάριο υγρό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0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"/>
          <p:cNvPicPr/>
          <p:nvPr/>
        </p:nvPicPr>
        <p:blipFill>
          <a:blip r:embed="rId2"/>
          <a:stretch/>
        </p:blipFill>
        <p:spPr>
          <a:xfrm>
            <a:off x="762120" y="781200"/>
            <a:ext cx="7619760" cy="529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ΑΛΒΟΥΜΙΝ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η πρωτεϊνη με την υψηλότερη συγκέντρωση στο πλάσμ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Συντίθεται στο ήπα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cc3300"/>
                </a:solidFill>
                <a:latin typeface="Arial"/>
              </a:rPr>
              <a:t>ΛΕΙΤΟΥΡΓΙ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Λειτουργεί ως πρωτεΐνη μεταφοράς για ορισμένες ουσίες με χαμηλή διαλυτότητα στο νερό (π.χ. χολερυθρίν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πηρεάζει την κολλοειδοσμωτική ισορροπ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ΦΑΙΡΙΝ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324000" y="1341360"/>
            <a:ext cx="84960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διαφορετικές ομάδες πρωτεϊνών, με σφαιρικό σχήμα μορίου (σφαιρίνες), οι οποίες επιτελούν διαφορετικές λειτουργί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cc3300"/>
                </a:solidFill>
                <a:latin typeface="Arial"/>
              </a:rPr>
              <a:t>ΛΕΙΤΟΥΡΓΙ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ωτεϊνες μεταφοράς (π.χ. φεριτίνη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αράγοντες πήξη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Σύστημα συμπληρώ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Πρόδρομες ουσίες ορμονών (π.χ. αγγειοτενσινογόνο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42880" indent="-2714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γ-σφαιρίνες, δρουν σαν αντισώματ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ΙΝΩΔΟΓΟΝ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Είναι πρωτεϊνη που συμμετέχει στο μηχανισμό της πήξ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τά τη διάρκεια της πήξης μετατρέπεται σε ινώδ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ΜΜΟΡΦΑ ΣΥΣΤΑΤΙΚ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2" descr=""/>
          <p:cNvPicPr/>
          <p:nvPr/>
        </p:nvPicPr>
        <p:blipFill>
          <a:blip r:embed="rId2"/>
          <a:stretch/>
        </p:blipFill>
        <p:spPr>
          <a:xfrm>
            <a:off x="1835280" y="1413000"/>
            <a:ext cx="5976720" cy="51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163440" y="260280"/>
            <a:ext cx="8656560" cy="622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2" name="Picture 4" descr="5"/>
          <p:cNvPicPr/>
          <p:nvPr/>
        </p:nvPicPr>
        <p:blipFill>
          <a:blip r:embed="rId1"/>
          <a:stretch/>
        </p:blipFill>
        <p:spPr>
          <a:xfrm>
            <a:off x="324000" y="2565360"/>
            <a:ext cx="8640720" cy="27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6407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Ερυθροκύτταρ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(ερυθρά αιμοσφαίρι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Λευκοκύτταρα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(λευκά αιμοσφαίρια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Πολυμορφοπύρηνα κοκκιοκύτταρα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         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(ουδετερόφιλα, βασεόφιλα, ηωσινόφιλ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Μον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- Λεμφ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 u="sng">
                <a:solidFill>
                  <a:srgbClr val="333399"/>
                </a:solidFill>
                <a:uFillTx/>
                <a:latin typeface="Arial"/>
              </a:rPr>
              <a:t>Αιμοπετάλι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79280" y="189000"/>
            <a:ext cx="85694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ΠΕΡΙΕΧΟΜΕΝΟ ΑΙΜΑΤΟΛΟΓΙΑΣ-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50560" y="1267920"/>
            <a:ext cx="8893080" cy="518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1. Το αίμα και τα συστατικά τ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2. Αιμοποίηση – αιμοποιητικά όργαν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3. Ερυθρά αιμοσφαίρι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4. Αντιγονικά συστήματα ερυθρών - ομάδες αί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5. Μεταβολισμός σιδήρου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6. Σιδηροπενική αναιμί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7. Μεγαλοβλαστ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8. Αιμολυτικές αναιμί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9. Αιμοσφαιρινοπάθειες: Β-μεσογεια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10. Αιμοσφαιρινοπάθειες: Δρεπανοκυτταρ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ΓΕΝΙΚΗ ΕΞΕΤΑΣΗ ΑΙΜΑΤ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ίναι η ποσοτική και αδρή μορφολογική μελέτη των έμμορφων συστατικών του αίματο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Η ποσοτική μελέτη αναφέρεται στην εκτίμηση του αριθμού κάθε κατηγορίας κυττάρων στη μονάδα του όγκο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755640" y="1052640"/>
            <a:ext cx="777240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ΕΡΥΘΡΟΚΥΤΤΑΡ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24000" y="2133360"/>
            <a:ext cx="8496000" cy="439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99" name="Picture 4" descr="2"/>
          <p:cNvPicPr/>
          <p:nvPr/>
        </p:nvPicPr>
        <p:blipFill>
          <a:blip r:embed="rId1"/>
          <a:stretch/>
        </p:blipFill>
        <p:spPr>
          <a:xfrm>
            <a:off x="1835280" y="2276640"/>
            <a:ext cx="5545080" cy="37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ΕΡΥΘΡΟΚΥΤΤΑΡ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324000" y="1600200"/>
            <a:ext cx="864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ίναι απύρηνα κύτταρ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ποτελούν το 38-48% του πλήρους αίματος (τα πιο πολυάριθμ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εριέχουν την αιμοσφαιρίνη (χαρακτηριστικό κόκκινο χρώμα του αίματος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Βασική αποστολή: μεταφορά οξυγόνου στους ιστού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αράγονται στα αιμοποιητικά όργαν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Ζουν ~100-120 ημέρ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Σε ~20 sec διανύουν ένα “πλήρη κύκλο” στην κυκλοφορία του αίματο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ΕΣ ΕΡΥΘΡΟΚΥΤΤΑΡΩ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Κύρια λειτουργία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Η μεταφορά Ο</a:t>
            </a:r>
            <a:r>
              <a:rPr b="1" lang="el-GR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στους ιστούς με την αιμοσφαιρίνη που περιέχου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Συμμετέχουν και στην απομάκρυνση του </a:t>
            </a:r>
            <a:r>
              <a:rPr b="1" lang="en-US" sz="3200" spc="-1" strike="noStrike">
                <a:solidFill>
                  <a:srgbClr val="333399"/>
                </a:solidFill>
                <a:latin typeface="Arial"/>
              </a:rPr>
              <a:t>CO</a:t>
            </a:r>
            <a:r>
              <a:rPr b="1" lang="en-US" sz="3200" spc="-1" strike="noStrike" baseline="-25000">
                <a:solidFill>
                  <a:srgbClr val="333399"/>
                </a:solidFill>
                <a:latin typeface="Arial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59920"/>
            <a:ext cx="871380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ΔΟΜΗ ΑΙΜΟΣΦΑΙΡΙΝΗ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6407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τελείται από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4 πεπτιδικές αλυσίδες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σφαιρίνη), κάθε μια από τις οποίες συνδέεται με ένα μόριο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αίμ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αίμη αποτελείται από ένα δακτύλιο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πορφυρίνη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, στο κέντρο του οποίου υπάρχει ένα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ιόν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Fe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++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 αναστρέψιμος δεσμός του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Fe++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με το Ο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συμμετέχει κατά 97% στη μεταφορά Ο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144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"/>
          <p:cNvPicPr/>
          <p:nvPr/>
        </p:nvPicPr>
        <p:blipFill>
          <a:blip r:embed="rId1"/>
          <a:stretch/>
        </p:blipFill>
        <p:spPr>
          <a:xfrm>
            <a:off x="982800" y="1677960"/>
            <a:ext cx="7476840" cy="4343400"/>
          </a:xfrm>
          <a:prstGeom prst="rect">
            <a:avLst/>
          </a:prstGeom>
          <a:ln w="0">
            <a:noFill/>
          </a:ln>
        </p:spPr>
      </p:pic>
      <p:sp>
        <p:nvSpPr>
          <p:cNvPr id="107" name="Ορθογώνιο 1"/>
          <p:cNvSpPr/>
          <p:nvPr/>
        </p:nvSpPr>
        <p:spPr>
          <a:xfrm>
            <a:off x="324000" y="476280"/>
            <a:ext cx="820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ΟΜΗ ΤΗΣ ΑΙΜΟΣΦΑΙΡΙΝ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250920" y="260280"/>
            <a:ext cx="8713800" cy="79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ΟΜΗ ΤΗΣ ΑΙΜΟΣΦΑΙΡΙΝΗ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5" descr=""/>
          <p:cNvPicPr/>
          <p:nvPr/>
        </p:nvPicPr>
        <p:blipFill>
          <a:blip r:embed="rId1"/>
          <a:stretch/>
        </p:blipFill>
        <p:spPr>
          <a:xfrm>
            <a:off x="1547640" y="1022400"/>
            <a:ext cx="6193080" cy="55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ΦΥΣΙΟΛΟΓΙΚΕΣ ΤΙΜΕΣ ΕΡΥΘΡΩΝ ΚΑΙ ΑΙΜΟΣΦΑΙΡΙΝ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916280"/>
            <a:ext cx="843588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ριθμός ερυθρών:  Α:  4,7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5,7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10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6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ίματο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3,8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5,2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x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10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6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m</a:t>
            </a:r>
            <a:r>
              <a:rPr b="1" lang="el-GR" sz="2600" spc="-1" strike="noStrike" baseline="30000">
                <a:solidFill>
                  <a:srgbClr val="002060"/>
                </a:solidFill>
                <a:latin typeface="Arial"/>
              </a:rPr>
              <a:t>3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αίματος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Τ αιμοσφαιρίνης: Α: 14-16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12-14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gr/d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ΦΤ αιματοκρίτη:      Α: 42% - 52% (μ.ο. 47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                              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: 37% - 47% (μ.ο. 42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ΡΥΘΡΟΚΥΤΤΑΡΙΚΟΙ ΔΕΙΚΤΕ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ος όγκος ερυθρών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V)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MCV=Ht/RBC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η ανά ερυθροκύτταρο ποσότητα αιμοσφαιρίνης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H)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CH=(Hgb*10)/RBC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έση πυκνότητα ανά ερυθροκύτταρο αιμοσφαιρίνης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CHC)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CHC=Hgb/Ht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ύρος κατανομής όγκου ερυθρών (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RDW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[</a:t>
            </a:r>
            <a:r>
              <a:rPr b="0" lang="el-GR" sz="2400" spc="-1" strike="noStrike">
                <a:solidFill>
                  <a:srgbClr val="ff0000"/>
                </a:solidFill>
                <a:latin typeface="Arial"/>
              </a:rPr>
              <a:t>11.5-14.5 μ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m]      [RDW=SDmcv/Xmcv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Ευθεία γραμμή σύνδεσης 7"/>
          <p:cNvSpPr/>
          <p:nvPr/>
        </p:nvSpPr>
        <p:spPr>
          <a:xfrm>
            <a:off x="6443640" y="5589720"/>
            <a:ext cx="144360" cy="0"/>
          </a:xfrm>
          <a:prstGeom prst="line">
            <a:avLst/>
          </a:prstGeom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324000" y="1267920"/>
            <a:ext cx="8496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Στο έμβρυο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Αρχίζει στον εμβρυϊκό σάκο και συνεχίζεται στο ήπαρ, στον σπλήνα και στους λεμφαδέν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τά τη γέννηση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Περιορίζεται μόνο στο μυελό των ο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 την πρόοδο της ηλικίας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: Μειώνεται η παραγωγή στα μακρά οστά και διατηρείται μόνο στα μεμβρανώδη (σπόνδυλοι, πλευρές, λεκάνη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7142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εξωμυελική αιμοποίηση είναι ΠΑΝΤΟΤΕ παθολογικ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ΒΙΒΛΙ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     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Πρακτική Αιματολογία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                 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Εκδ. Λαγός, 201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κπαιδευτικό υλικ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Όλες οι </a:t>
            </a:r>
            <a:r>
              <a:rPr b="1" lang="el-GR" sz="3200" spc="-1" strike="noStrike">
                <a:solidFill>
                  <a:srgbClr val="333399"/>
                </a:solidFill>
                <a:latin typeface="Arial"/>
              </a:rPr>
              <a:t>παρουσιάσεις των διαλέξεων </a:t>
            </a: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βρίσκονται στο </a:t>
            </a: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e-cla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333399"/>
                </a:solidFill>
                <a:latin typeface="Arial"/>
              </a:rPr>
              <a:t>Χρησιμεύουν ως σημειώσεις του μαθήματ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Ορθογώνιο 3"/>
          <p:cNvSpPr/>
          <p:nvPr/>
        </p:nvSpPr>
        <p:spPr>
          <a:xfrm>
            <a:off x="611280" y="1557360"/>
            <a:ext cx="7848360" cy="1511280"/>
          </a:xfrm>
          <a:prstGeom prst="rect">
            <a:avLst/>
          </a:prstGeom>
          <a:noFill/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ΤΑΔΙΑ ΕΡΥΘΡΟΠΟΙΗΣΗ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179280" y="1052640"/>
            <a:ext cx="885672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ολυδύναμα κύτταρα (</a:t>
            </a:r>
            <a:r>
              <a:rPr b="1" lang="en-US" sz="3200" spc="-1" strike="noStrike">
                <a:solidFill>
                  <a:srgbClr val="002060"/>
                </a:solidFill>
                <a:latin typeface="Arial"/>
              </a:rPr>
              <a:t>ste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Πολυδύναμα ερυθράς σειρά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2060"/>
                </a:solidFill>
                <a:latin typeface="Arial"/>
              </a:rPr>
              <a:t>(προνορμοβλάστη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Νορμοβλάστε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ασεόφιλη, πολυχρωματόφιλη, ορθοχρωματική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Δικτυο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2060"/>
                </a:solidFill>
                <a:latin typeface="Arial"/>
              </a:rPr>
              <a:t>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4"/>
          <p:cNvSpPr/>
          <p:nvPr/>
        </p:nvSpPr>
        <p:spPr>
          <a:xfrm>
            <a:off x="4500720" y="1700280"/>
            <a:ext cx="144360" cy="360360"/>
          </a:xfrm>
          <a:prstGeom prst="downArrow">
            <a:avLst>
              <a:gd name="adj1" fmla="val 50000"/>
              <a:gd name="adj2" fmla="val 3742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4500720" y="3068640"/>
            <a:ext cx="142560" cy="360360"/>
          </a:xfrm>
          <a:prstGeom prst="downArrow">
            <a:avLst>
              <a:gd name="adj1" fmla="val 50000"/>
              <a:gd name="adj2" fmla="val 37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4"/>
          <p:cNvSpPr/>
          <p:nvPr/>
        </p:nvSpPr>
        <p:spPr>
          <a:xfrm>
            <a:off x="4500720" y="4437000"/>
            <a:ext cx="142560" cy="360360"/>
          </a:xfrm>
          <a:prstGeom prst="downArrow">
            <a:avLst>
              <a:gd name="adj1" fmla="val 50000"/>
              <a:gd name="adj2" fmla="val 37893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4"/>
          <p:cNvSpPr/>
          <p:nvPr/>
        </p:nvSpPr>
        <p:spPr>
          <a:xfrm>
            <a:off x="4500720" y="5373720"/>
            <a:ext cx="142560" cy="358920"/>
          </a:xfrm>
          <a:prstGeom prst="downArrow">
            <a:avLst>
              <a:gd name="adj1" fmla="val 50000"/>
              <a:gd name="adj2" fmla="val 3774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Arial"/>
              </a:rPr>
              <a:t>ΠΑΡΑΓΩΓΗ ΕΡΥΘΡΩΝ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468360" y="1628640"/>
            <a:ext cx="835164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87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ΦΟΡΟΠΟΙΗΣΗ ΕΡΥΘΡΗΣ ΣΕΙΡ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57200" y="1197000"/>
            <a:ext cx="8507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ιτωτικές διαιρέσεις μέχρι το στάδιο του πολυχρωματικού ερυθροβλάστη, με σύγχρονη ωρίμανση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υξητικός παράγων: Ερυθροποιητίνη (Ε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PO</a:t>
            </a: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ναλογία στο μυελό ~17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Καθημερινά παράγονται περί τα 2,5x109 ανά kg ΣΒ ερυθροκύτταρ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ΚΥΤΤΑΡΑ Σ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24000" y="1052640"/>
            <a:ext cx="8496000" cy="580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57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αίμα υπάρχουν μόνο ερυθροκύτταρα (98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και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ικτυοερυθροκύτταρα (2%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δικτυοερυθροκύτταρα αυξάνουν όταν υπάρχει ταχεία παραγωγή ερυθρ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ώριμα ερυθρά παίρνουν τη μορφή του αμφίκοιλου δίσκ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009999"/>
                </a:solidFill>
                <a:latin typeface="Arial"/>
              </a:rPr>
              <a:t>ΣΧΗΜΑ ΕΡΥΘΡΟΚΥΤΤΑΡΩ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ώριμα ερυθρά παίρνουν τη μορφή του αμφίκοιλου δίσκου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4" descr="2"/>
          <p:cNvPicPr/>
          <p:nvPr/>
        </p:nvPicPr>
        <p:blipFill>
          <a:blip r:embed="rId1"/>
          <a:stretch/>
        </p:blipFill>
        <p:spPr>
          <a:xfrm>
            <a:off x="1619280" y="1341360"/>
            <a:ext cx="6215040" cy="416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ΕΛΕΓΧΟΣ ΠΑΡΑΓΩΓΗΣ ΕΡΥΘΡΩΝ: ΕΡΥΘΡΟΠΟΙΗΤΙΝ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παραγωγή ερυθρών ελέγχεται από την ορμόνη 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ερυθροποιητ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ερυθροποιητίνη παράγεται στους νεφρούς (Έτσι, σε νεφρική ανεπάρκεια έχουμε 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Δρα στο μυελό των οστών, αυξάνοντας την παραγωγή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/>
          <a:stretch/>
        </p:blipFill>
        <p:spPr>
          <a:xfrm>
            <a:off x="1214280" y="1233360"/>
            <a:ext cx="6996240" cy="50533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2"/>
          <p:cNvSpPr/>
          <p:nvPr/>
        </p:nvSpPr>
        <p:spPr>
          <a:xfrm>
            <a:off x="430200" y="209520"/>
            <a:ext cx="86425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ΡΥΘΜΙΣΗ ΠΑΡΑΓΩΓ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50920" y="188640"/>
            <a:ext cx="86421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ΡΥΘΜΙΣΗ ΠΑΡΑΓΩΓ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139" name="Picture 4" descr="4"/>
          <p:cNvPicPr/>
          <p:nvPr/>
        </p:nvPicPr>
        <p:blipFill>
          <a:blip r:embed="rId1"/>
          <a:stretch/>
        </p:blipFill>
        <p:spPr>
          <a:xfrm>
            <a:off x="2755800" y="765000"/>
            <a:ext cx="4154760" cy="609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ΤΡΟΦΙΚΕΣ ΑΠΑΙΤΗΣΕΙΣ ΓΙΑ ΤΗΝ ΠΑΡΑΓΩΓ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042560" y="1988640"/>
            <a:ext cx="7777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Βιταμίνη Β12 (κυανοκοβαλαμίνη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Φυλλικό οξ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a227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a22700"/>
                </a:solidFill>
                <a:latin typeface="Arial"/>
              </a:rPr>
              <a:t>Σίδηρο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Β</a:t>
            </a:r>
            <a:r>
              <a:rPr b="1" lang="el-GR" sz="4000" spc="-1" strike="noStrike" baseline="-25000">
                <a:solidFill>
                  <a:srgbClr val="009999"/>
                </a:solidFill>
                <a:latin typeface="Arial"/>
              </a:rPr>
              <a:t>1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250560" y="1125360"/>
            <a:ext cx="889308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ειωμένα επίπεδα Β</a:t>
            </a:r>
            <a:r>
              <a:rPr b="1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και φυλλικού οξέος επηρεάζουν την διαίρεση και ωρίμανση των κυττάρω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αρατηρείται μείωση του αριθμού ερυθρ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είωση ολικής ποσότητας αιμοσφαιρίνης, (χωρίς πρόβλημα στη σύνθεση της αιμοσφαιρίνη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Παράγονται μεγάλα ανώμαλα ερυθρά, τα μακροκύτταρα 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μα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μυελό υπάρχουν πρόδρομες μορφές ερυθρών, οι μακροβλάστες 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μεγαλοβλαστ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2" descr=""/>
          <p:cNvPicPr/>
          <p:nvPr/>
        </p:nvPicPr>
        <p:blipFill>
          <a:blip r:embed="rId2"/>
          <a:stretch/>
        </p:blipFill>
        <p:spPr>
          <a:xfrm>
            <a:off x="1187280" y="1628640"/>
            <a:ext cx="650088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ΑΙΤΙΕΣ ΕΛΛΕΙΨΗΣ Β</a:t>
            </a:r>
            <a:r>
              <a:rPr b="1" lang="el-GR" sz="3600" spc="-1" strike="noStrike" baseline="-25000">
                <a:solidFill>
                  <a:srgbClr val="009999"/>
                </a:solidFill>
                <a:latin typeface="Arial"/>
              </a:rPr>
              <a:t>12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&amp; ΦΟΛΙΚ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79280" y="1413000"/>
            <a:ext cx="878544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Ανεπαρκής πρόσληψη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πό τις τροφές (ζωικών τροφίμων και πράσινων λαχανικώ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 u="sng">
                <a:solidFill>
                  <a:srgbClr val="002060"/>
                </a:solidFill>
                <a:uFillTx/>
                <a:latin typeface="Arial"/>
              </a:rPr>
              <a:t>Μειωμένη απορρόφηση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, λόγω μειωμένης παραγωγής ενδογενούς παράγοντα από το στομάχι (συνδέεται με τ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το σύμπλεγμα απορροφάται από τον ειλεό)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649"/>
              </a:spcBef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    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Η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αποθηκεύεται στο ήπαρ για 1-2 χρόνι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ΚΟΗΘΗΣ ΑΝΑΙΜΙ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528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Ελαττωμένη έκκριση ενδογενούς παράγοντ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ίωση απορρόφησης Β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1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γαλοβλαστική και μακροκυτταρική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υξημένη παραγωγή χολερυθρίνης λόγω αιμόλυσης των ανώμαλων ερυθρών (ίκτερο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ΙΔΗΡ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5280" y="1341000"/>
            <a:ext cx="856944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ε ανεπαρκή πρόσληψη σιδήρου, περιορίζεται η σύνθεση της αιμοσφαιρίνης      αναιμί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ερυθρά είναι υπόχρωμα και μικρότερ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</a:t>
            </a:r>
            <a:r>
              <a:rPr b="1" lang="el-GR" sz="2600" spc="-1" strike="noStrike">
                <a:solidFill>
                  <a:srgbClr val="ff0000"/>
                </a:solidFill>
                <a:latin typeface="Arial"/>
              </a:rPr>
              <a:t>υπόχρωμη μικροκυτταρική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ιμ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ιτίες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α) Μειωμένη πρόσληψη ή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(β) αυξημένη απώλεια (π.χ. σε χρόνια αιμορραγί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4"/>
          <p:cNvSpPr/>
          <p:nvPr/>
        </p:nvSpPr>
        <p:spPr>
          <a:xfrm>
            <a:off x="5291280" y="198900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ΣΙΔΗΡΟ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765000"/>
            <a:ext cx="896472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Πρόσληψ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μέση διατροφή έχει 10-15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/μέρα και απορροφάται το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ώλειε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ι άνδρες χάνουν 1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έρα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οι γυναίκες 2 </a:t>
            </a:r>
            <a:r>
              <a:rPr b="1" lang="en-US" sz="2600" spc="-1" strike="noStrike">
                <a:solidFill>
                  <a:srgbClr val="002060"/>
                </a:solidFill>
                <a:latin typeface="Arial"/>
              </a:rPr>
              <a:t>mg/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μέρα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ορρόφησ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ρροφάται με τη βοήθεια της τρανσφερίνης του εντέρου και τους υποδοχείς τρανσφερίνης-σιδήρου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απορρόφηση αυξάνει όταν αυξάνουν οι ανάγκες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	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Η τρανσφερίνη του πλάσματος μεταφέρει το σίδηρο στην κυκλοφορία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Αποθήκευση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Τα επιπλέον ποσά αποθηκεύονται με τη μορφή φεριτίνης ή αιμοσιδηρίνης σε ήπαρ, σπλήνα και μυελό οστ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49636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ΥΚΛΟΣ ΤΟΥ ΣΙΔΗΡΟ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3" descr="3"/>
          <p:cNvPicPr/>
          <p:nvPr/>
        </p:nvPicPr>
        <p:blipFill>
          <a:blip r:embed="rId1"/>
          <a:stretch/>
        </p:blipFill>
        <p:spPr>
          <a:xfrm>
            <a:off x="2124000" y="765000"/>
            <a:ext cx="4608720" cy="590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ΤΑΧΥΤΗΤΑ ΚΑΘΙΖΗΣΗ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0" y="1125000"/>
            <a:ext cx="896472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ε μια κάθετη στήλη αίματος με αντιπηκτικό τα ερυθρά πέφτουν αργά προς τα κάτω, αφήνοντας από πάνω το πλάσμα. Ο ρυθμός καθίζησης αυξάνεται σε ορισμένα νοσήματ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Για το λόγο αυτό, η ταχύτητα καθίζησης ερυθρών (ΤΚΕ) αποτελεί συνήθη εργαστηριακή  εξέταση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ΦΤ: 5-10 </a:t>
            </a:r>
            <a:r>
              <a:rPr b="0" lang="en-US" sz="2600" spc="-1" strike="noStrike">
                <a:solidFill>
                  <a:srgbClr val="002060"/>
                </a:solidFill>
                <a:latin typeface="Arial"/>
              </a:rPr>
              <a:t>mm/h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. (Σε εγκυμοσύνη περισσότερο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spcAft>
                <a:spcPts val="975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Αυξημένες τιμές ΤΚΕ συνδέονται με αύξηση ανοσοσφαιρινών, που ευνοούν τη δημιουργία συσσωμάτων, που καθιζάνουν ταχύτερα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ΤΑΣΤΡΟΦΗ ΕΡΥΘΡΟΚΥΤΤΑ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820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Μέσος όρος ζωή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120 ημέρε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Καταστροφή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στο σπλήνα και το ήπαρ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Φαγοκύτταρα του ΔΕΣ: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ποδομούν την αιμοσφαιρίνη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Ο σίδηρος της αίμ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κυκλώνε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Τα αμινοξέα της σφαιρίν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ανακυκλώνονται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42880" indent="-357120">
              <a:lnSpc>
                <a:spcPct val="90000"/>
              </a:lnSpc>
              <a:spcBef>
                <a:spcPts val="649"/>
              </a:spcBef>
              <a:spcAft>
                <a:spcPts val="1199"/>
              </a:spcAft>
              <a:buClr>
                <a:srgbClr val="a227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a22700"/>
                </a:solidFill>
                <a:latin typeface="Arial"/>
              </a:rPr>
              <a:t>Οι δακτύλιοι πορφυρίνης</a:t>
            </a:r>
            <a:r>
              <a:rPr b="1" lang="el-GR" sz="2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Arial"/>
              </a:rPr>
              <a:t>γίνονται χολερυθρίνη (αποβολή μέσω χολής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4000" y="115920"/>
            <a:ext cx="849600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ΚΑΤΑΣΤΡΟΦΗ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Picture 4" descr=""/>
          <p:cNvPicPr/>
          <p:nvPr/>
        </p:nvPicPr>
        <p:blipFill>
          <a:blip r:embed="rId1"/>
          <a:srcRect l="0" t="2691" r="0" b="0"/>
          <a:stretch/>
        </p:blipFill>
        <p:spPr>
          <a:xfrm>
            <a:off x="857160" y="928800"/>
            <a:ext cx="762012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Ορθογώνιο 1"/>
          <p:cNvSpPr/>
          <p:nvPr/>
        </p:nvSpPr>
        <p:spPr>
          <a:xfrm>
            <a:off x="611280" y="115920"/>
            <a:ext cx="8424720" cy="560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Αναιμία: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ελάττωση του Hct και της αιμοσφαιρίνης (♀&lt;12g/dl, ♂&lt;13g/dl), λόγω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Μείωσης της παραγωγής ερυθρών στο μυελ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Μειωμένης επιβίωσης των ερυθρών (μη αποδοτική ερυθροποίηση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Αύξησης της καταστροφής ερυθρών (αιμόλυση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O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ξείας ή χρόνιας απώλειας ερυθρών (αιμορραγί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- Συνδυασμού των παραπάν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324000" y="981000"/>
            <a:ext cx="88200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Μειωμένη παραγωγή ερυθρών: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ιτίε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Διήθηση</a:t>
            </a:r>
            <a:r>
              <a:rPr b="0" lang="el-GR" sz="2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υελού από νεοπλασματικά κύτταρα (λευχαιμίες, λεμφώματα, πολλαπλούν μυέλωμα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υελική ίνωσ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A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πλαστική αναιμί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Τροφικές διαταραχές (έλλειψη Β12, φυλλικού, F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Ακτινοβόληση μυελο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Μειωμένη παραγωγή ερυθροποιητίνης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 (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ΧΝΑ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Θυρεοειδοπάθειε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ΤΟ ΑΙΜ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Ρευστός ιστό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Μεταφέρεται μέσα στα αγγεί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Είναι εναιώρημα έμμορφων στοιχείων μέσα στο πλάσμα (άμορφο συστατικό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2060"/>
                </a:solidFill>
                <a:latin typeface="Arial"/>
              </a:rPr>
              <a:t>Αποτελεί το7% του ανθρώπινου βάρους (70</a:t>
            </a:r>
            <a:r>
              <a:rPr b="0" lang="en-US" sz="3200" spc="-1" strike="noStrike">
                <a:solidFill>
                  <a:srgbClr val="002060"/>
                </a:solidFill>
                <a:latin typeface="Arial"/>
              </a:rPr>
              <a:t>ml/k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981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</a:rPr>
              <a:t>ΔΙΑΤΑΡΑΧΕΣ ΕΡΥΘΡΩΝ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95280" y="1125000"/>
            <a:ext cx="8569440" cy="547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Arial"/>
              </a:rPr>
              <a:t>Αιμόλυση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: καταστροφή των ερυθρών ενδοαγγειακά ή εξωαγγειακά (ΔΕΣ), λόγω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06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Ενδο-ερυθροκυτταρικής αι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  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(αιμοσφαιρινοπάθειες, μεμβρανοπάθειες, ενζυμοπάθειες, έλλειψη </a:t>
            </a:r>
            <a:r>
              <a:rPr b="0" lang="en-US" sz="2800" spc="-1" strike="noStrike">
                <a:solidFill>
                  <a:srgbClr val="002060"/>
                </a:solidFill>
                <a:latin typeface="Arial"/>
              </a:rPr>
              <a:t>G6PD,</a:t>
            </a: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220680">
              <a:spcBef>
                <a:spcPts val="700"/>
              </a:spcBef>
              <a:buClr>
                <a:srgbClr val="00206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Arial"/>
              </a:rPr>
              <a:t>Εξω-ερυθροκυτταρικής αιτία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0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2060"/>
                </a:solidFill>
                <a:latin typeface="Arial"/>
              </a:rPr>
              <a:t>(αυτοάνοση αιμολυτική αναιμία, αλλοάνοση αιμολυτική αναιμία, από φάρμακα και χημικές ουσίες,φυτικά και ζωικά δηλητήρια, μηχανικού τύπου αιμόλυση κλπ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30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220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755640" y="189000"/>
            <a:ext cx="77724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ΛΕΙΤΟΥΡΓΙΕΣ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2"/>
          <p:cNvSpPr/>
          <p:nvPr/>
        </p:nvSpPr>
        <p:spPr>
          <a:xfrm>
            <a:off x="179280" y="1125360"/>
            <a:ext cx="8713800" cy="65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Ο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θρεπτικών ουσιών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CO</a:t>
            </a:r>
            <a:r>
              <a:rPr b="0" lang="el-GR" sz="2600" spc="-1" strike="noStrike" baseline="-25000">
                <a:solidFill>
                  <a:srgbClr val="002060"/>
                </a:solidFill>
                <a:latin typeface="Arial"/>
              </a:rPr>
              <a:t>2</a:t>
            </a: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 και αζωτ. προϊόντων μεταβολισμού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Μεταφορά αντισωμάτων, παραγόντων της πήξης του αίματος, καθώς και διαφόρων άλλων μορίων (π.χ. ορμόνες, βιταμίνες, ιχνοστοιχεία κλπ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θερμοκρασίας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οξεοβασικής ισορροπί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 ρύθμιση της οσμωτικής ισορροπία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Συμμετοχή στην άμυνα του οργανισμού (λευκοκύτταρα, μεταφορά αντισωμάτων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 algn="just">
              <a:spcBef>
                <a:spcPts val="649"/>
              </a:spcBef>
              <a:spcAft>
                <a:spcPts val="814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002060"/>
                </a:solidFill>
                <a:latin typeface="Arial"/>
              </a:rPr>
              <a:t>Έλεγχος της αιμόσταση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57120" indent="-357120">
              <a:lnSpc>
                <a:spcPct val="150000"/>
              </a:lnSpc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ΟΓΚΟΣ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70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ml/kgr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βάρους σώματο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Δηλαδή σε ένα ενήλικα 70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kgr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ίναι περίπου 5 </a:t>
            </a:r>
            <a:r>
              <a:rPr b="1" lang="en-US" sz="2400" spc="-1" strike="noStrike">
                <a:solidFill>
                  <a:srgbClr val="002060"/>
                </a:solidFill>
                <a:latin typeface="Arial"/>
              </a:rPr>
              <a:t>l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24000" y="1773360"/>
            <a:ext cx="849600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l-GR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66" name="Picture 4" descr="1"/>
          <p:cNvPicPr/>
          <p:nvPr/>
        </p:nvPicPr>
        <p:blipFill>
          <a:blip r:embed="rId1"/>
          <a:stretch/>
        </p:blipFill>
        <p:spPr>
          <a:xfrm>
            <a:off x="3305160" y="1393920"/>
            <a:ext cx="3402000" cy="546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55640" y="259920"/>
            <a:ext cx="77724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Arial"/>
              </a:rPr>
              <a:t>ΣΥΣΤΑΤΙΚΑ ΤΟΥ ΑΙΜΑΤΟ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324000" y="1557360"/>
            <a:ext cx="8496000" cy="49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Βρίσκονται στο πλάσμ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Αλβουμίν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Σφαιρίνε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  </a:t>
            </a: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- Ινωδογόν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>
              <a:spcBef>
                <a:spcPts val="799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Ερυθροκύττα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Λευκοκύτταρ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2060"/>
                </a:solidFill>
                <a:latin typeface="Arial"/>
              </a:rPr>
              <a:t>Αιμοπετάλι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86040" indent="0" algn="ctr">
              <a:spcBef>
                <a:spcPts val="601"/>
              </a:spcBef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4"/>
          <p:cNvSpPr/>
          <p:nvPr/>
        </p:nvSpPr>
        <p:spPr>
          <a:xfrm>
            <a:off x="1116000" y="1700280"/>
            <a:ext cx="1511280" cy="4316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ΟΥΣΙΕ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1187280" y="3933720"/>
            <a:ext cx="1584360" cy="4320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1800" spc="-1" strike="noStrike">
                <a:solidFill>
                  <a:srgbClr val="cc3300"/>
                </a:solidFill>
                <a:latin typeface="Arial"/>
              </a:rPr>
              <a:t>ΚΥΤΤΑΡ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8T16:00:50Z</dcterms:created>
  <dc:creator>a</dc:creator>
  <dc:description/>
  <dc:language>en-US</dc:language>
  <cp:lastModifiedBy>Χρήστος</cp:lastModifiedBy>
  <dcterms:modified xsi:type="dcterms:W3CDTF">2015-03-05T06:19:35Z</dcterms:modified>
  <cp:revision>52</cp:revision>
  <dc:subject/>
  <dc:title>ΗΛΕΚΤΡΙΚΑ ΣΗΜΑΤΑ ΚΑΙ ΔΙΕΓΕΡΣΙΜΑ ΚΥΤΤΑΡΑ</dc:title>
</cp:coreProperties>
</file>